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28.wmf" ContentType="image/x-wmf"/>
  <Override PartName="/ppt/media/image27.jpeg" ContentType="image/jpeg"/>
  <Override PartName="/ppt/media/image5.wmf" ContentType="image/x-wmf"/>
  <Override PartName="/ppt/media/image10.png" ContentType="image/png"/>
  <Override PartName="/ppt/media/image33.jpeg" ContentType="image/jpeg"/>
  <Override PartName="/ppt/media/image30.jpeg" ContentType="image/jpeg"/>
  <Override PartName="/ppt/media/image15.png" ContentType="image/png"/>
  <Override PartName="/ppt/media/image31.wmf" ContentType="image/x-wmf"/>
  <Override PartName="/ppt/media/image11.png" ContentType="image/png"/>
  <Override PartName="/ppt/media/image9.png" ContentType="image/png"/>
  <Override PartName="/ppt/media/image6.png" ContentType="image/png"/>
  <Override PartName="/ppt/media/image4.png" ContentType="image/png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18.wmf" ContentType="image/x-wmf"/>
  <Override PartName="/ppt/media/image26.jpeg" ContentType="image/jpe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4910-3704-4F02-8B89-2A1110F55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1C95-90D2-46B3-88E1-44D5DCBC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9ACE-99C8-432D-9B86-52CB98C00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68BE-9A6C-43B8-94AE-F5CE98DD3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F422-2A1B-4D24-9337-32ABE25CC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D42A-3A82-4BFB-BCFB-0EEE4972E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05E4-B399-495E-81DD-1FAAF4414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CD45-736C-4100-8286-4084DC4A4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C0D8-C38D-40A4-BC55-3F873C914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A6EB-D533-4C8B-BE8F-F37A220E6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F151-6149-4346-AD58-7EC9FE4D6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B6D1-0239-4B43-A91C-5684A8E92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2378-67E2-47CD-8327-81E6D9A3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5895-D939-4D5C-9A59-634B97A7A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8BA2-D912-47FD-B55E-E8757FA81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3C98-156E-49A5-A0B0-F8F8AC5E3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6842-8696-4213-ABA1-933830ABC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68D-51D8-452E-AB51-B311EE4D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870-4825-42E7-9457-EB0F5FDB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E2F-E965-40FB-8845-5ACE7EEC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F03-79DE-4967-9857-257DA59F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59D1-2256-4BA9-B4DF-EC3C0D4E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34BE-A9E2-4A1F-B8D7-248ECDC1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CA3D-C925-4799-94D4-2282055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05DB-1E03-4411-B1EE-C4636DCA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E676-2330-4C43-8A5B-94E1C818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D797-6ACB-4E4F-94F9-586EA672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0A78-7D34-4DC6-8CD7-BB7769C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968-7320-4DE6-973E-B9FF34E2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D02F-9F81-4BB7-808D-AB9FEE15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DDE3-9FF9-48C9-9B82-C51F4ED7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512B-12A1-48A0-BB2A-81C4D8C5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565D-9CC0-4D08-8AE6-3413485E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143C-C431-4CA6-9CC0-99A579CE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907-68D9-4078-8A4B-E52F65F4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A16-F527-4540-902F-856DE6A3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A9E-33DD-4724-B40F-4FDE3278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5E3-1456-4149-A2D3-A93F8DD4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7FC-F529-40D1-AB22-6617D41D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9F7-DF10-499F-BFD5-3CA15441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58E-AEE0-4C73-B2C7-5943D4F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D8B2-9237-43D1-A03E-5B34682386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33EE-5402-42B3-8A0B-5028F1DEDE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snbc.msn.com/id/42569811/ns/us_news-life/t/yale-student-dies-chemistry-lab-accident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it 1(Intro to Biology), Part 2 Notes – Lab Safe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 Safety Equi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85680"/>
            <a:ext cx="44956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ggested that you wear glasses and not contact l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ggles with vents vs. goggles without 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: Aprons and Glo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219480" y="2209680"/>
            <a:ext cx="2509920" cy="339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562120" cy="3343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457200" y="220968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 Safety Equi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 Extinguis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 Blanket: used for fires on hair or cl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 Wa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352600" cy="2210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2905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quipment Usage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st of replacing glassware or equipment caused b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glig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uld be the responsibility of the stude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neglig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Chipped or cracked glassware shoul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Broken glassware should 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special glass disposa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f a piece of glassware gets broken, do n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clean it up by yourself. Notify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r protective goggles and a lab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on whenever heating or pour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 mix chemicals together unles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are told to do so (and then only in 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 touch, smell, or taste an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6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471320" cy="19047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need to smell the odor of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mical, waft the fumes towar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ose with one hand.  Do n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your nose over the containe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our water into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ntrated acid.  Acid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poured slowly into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 Follow the instructions of you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when disposing of al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micals.  (Solid wastes should not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d in the s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 Wash your hands after handl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ing Biological Materi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any live or preserved specimens, be RESPECTFU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 caution when using sharp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ose of all biological materials as directed by the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y electrical cords where n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trip on them or ge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sure your hands and your la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a are dry before us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oke anything int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ical outl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6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1627200" cy="22096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do We Talk about Lab Safet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msnbc.msn.com/id/42569811/ns/us_news-life/t/yale-student-dies-chemistry-lab-accident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 burners and hotplates cool down befo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uching them. Test to see if they are coo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ough by bringing the back of your h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Use tongs and/or protective gloves to hand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 ob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 Never reach across an open flame or burn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 Tie back long hair and do not wear loo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.  Always point the top ends of test tubes that a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ng heated away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.  When heating a test tube, move it around slowl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the flame to 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mediately flush wit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until burn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ts and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sing directly on min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ts will stop bleeding in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w minute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sh eyes immediate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plenty of water 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minutes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92420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Find out what substance wa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sible and alert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sh with large quantities o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bout Artic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ould have been done to prevent this accid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hould the university do in response to the accident to improve their lab safety practic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Listen to or read instructions careful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attempting to do 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 Wear proper protective gea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priate clo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Notify your teacher if any spills 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Object 5" descr=""/>
          <p:cNvPicPr/>
          <p:nvPr/>
        </p:nvPicPr>
        <p:blipFill>
          <a:blip r:embed="rId1"/>
          <a:stretch/>
        </p:blipFill>
        <p:spPr>
          <a:xfrm>
            <a:off x="5486400" y="4610160"/>
            <a:ext cx="26668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53341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handling chemicals, always wash your hands with soap and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ing lab work, keep your hand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way from your face and tie back your ha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981080" cy="14684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23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Know the location lab safe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 Keep your work area uncluttered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Object 5" descr=""/>
          <p:cNvPicPr/>
          <p:nvPr/>
        </p:nvPicPr>
        <p:blipFill>
          <a:blip r:embed="rId1"/>
          <a:stretch/>
        </p:blipFill>
        <p:spPr>
          <a:xfrm>
            <a:off x="3657600" y="4495680"/>
            <a:ext cx="2286000" cy="1602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562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put anyth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mouth during a la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n up your lab are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conclusion o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“horse around” 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 practical jokes i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2548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havior in the Science Classro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should not touch equipment unless given proper instructions and permission by the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read your lab procedur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, drink, and gum are a N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ize clu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274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ropriate Clot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open-toed sho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 Hair 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l up loose slee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rsey Material: will mel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562720" y="3743280"/>
            <a:ext cx="1746000" cy="311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553080" y="18288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Windows User</cp:lastModifiedBy>
  <dcterms:modified xsi:type="dcterms:W3CDTF">2014-09-02T18:20:39Z</dcterms:modified>
  <cp:revision>88</cp:revision>
  <dc:subject/>
  <dc:title>Lab Safety</dc:title>
</cp:coreProperties>
</file>